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75-0744-4AB3-B36E-F94DF4DC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BB0-D712-44D8-85CB-BF943931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B9C-6B11-4F4B-BCBE-7F6598D1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CE6-57AB-49A6-BD16-0BC43972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6AE-848F-42C0-A1A0-44FCEC7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419-E4A9-40F2-B325-BEC8E90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203-B38D-4BFD-A1CF-349F7FE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96F-CB59-4DDC-B88D-F1593CB8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9D2-1BC1-4619-B837-E03117A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0F1-5017-4C92-8894-8B41674A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A22-641F-4AAB-B9B6-57E1E7B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68E-959F-4F33-95ED-AB5D22D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B29-874A-4EF7-9A93-C48D0FF89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4130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79640" y="5516640"/>
            <a:ext cx="662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 Rounded MT Bold"/>
              </a:rPr>
              <a:t>What is oil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6360" y="2205000"/>
            <a:ext cx="6121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Oil is a liquid composed mostly of hydrogen and carbon. Its usually found underground in soil but can also be found above ground in oil seeps and tar p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7280" y="1341360"/>
            <a:ext cx="3906720" cy="395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125360"/>
            <a:ext cx="42483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The world is mostly covered by sea. The sea has lots animals and plants.</a:t>
            </a:r>
            <a:r>
              <a:rPr b="0" lang="en-US" sz="2500" spc="-1" strike="noStrike">
                <a:solidFill>
                  <a:srgbClr val="6600ff"/>
                </a:solidFill>
                <a:latin typeface="Arial Rounded MT Bol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These animals and plants called plankton get energy to live from sunligh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When they die they sink to the bottom of the sea. The ones that died many years ago are the source of today's oil and g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lank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76280"/>
            <a:ext cx="3311640" cy="1800360"/>
          </a:xfrm>
          <a:prstGeom prst="wedgeEllipseCallout">
            <a:avLst>
              <a:gd name="adj1" fmla="val 51819"/>
              <a:gd name="adj2" fmla="val 61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6600ff"/>
                </a:solidFill>
                <a:latin typeface="Arial"/>
              </a:rPr>
              <a:t>If you are wondering what plankton is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4869000"/>
            <a:ext cx="2987640" cy="1439640"/>
          </a:xfrm>
          <a:prstGeom prst="wedgeRoundRectCallout">
            <a:avLst>
              <a:gd name="adj1" fmla="val -48513"/>
              <a:gd name="adj2" fmla="val -85282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Plankton is a little fish that swims around in the se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13360"/>
            <a:ext cx="2808360" cy="1368360"/>
          </a:xfrm>
          <a:prstGeom prst="cloudCallout">
            <a:avLst>
              <a:gd name="adj1" fmla="val 59157"/>
              <a:gd name="adj2" fmla="val -9547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9966"/>
                </a:solidFill>
                <a:latin typeface="Arial"/>
              </a:rPr>
              <a:t>It looks like thi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620640"/>
            <a:ext cx="2089080" cy="1330560"/>
          </a:xfrm>
          <a:prstGeom prst="wedgeRectCallout">
            <a:avLst>
              <a:gd name="adj1" fmla="val -78722"/>
              <a:gd name="adj2" fmla="val 7971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te aye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457440" cy="338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1557360"/>
            <a:ext cx="468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The sun's energy was stored in the bodies of the dead creatures and plants. The dead bodies started to dec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711360"/>
            <a:ext cx="49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5680"/>
            <a:ext cx="8209080" cy="650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2924280"/>
            <a:ext cx="4680000" cy="2160360"/>
          </a:xfrm>
          <a:custGeom>
            <a:avLst/>
            <a:gdLst>
              <a:gd name="textAreaLeft" fmla="*/ 0 w 4680000"/>
              <a:gd name="textAreaRight" fmla="*/ 4680360 w 4680000"/>
              <a:gd name="textAreaTop" fmla="*/ 280080 h 2160360"/>
              <a:gd name="textAreaBottom" fmla="*/ 188028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e need oil to kee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he world going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0:44:11Z</dcterms:created>
  <dc:creator>VercoeA</dc:creator>
  <dc:description/>
  <dc:language>en-US</dc:language>
  <cp:lastModifiedBy>VercoeA</cp:lastModifiedBy>
  <dcterms:modified xsi:type="dcterms:W3CDTF">2008-10-29T23:52:06Z</dcterms:modified>
  <cp:revision>8</cp:revision>
  <dc:subject/>
  <dc:title>Slide 1</dc:title>
</cp:coreProperties>
</file>